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Click to move the slide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B928-CF61-4F4B-A54A-9FCED89AF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sending an RTS [request to send] the node waits between a random period 0 and di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SR lost most of the packets due to queue over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not the deadline specified in the sen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not the deadline specified in the sen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a messsage from I to d. then j is in F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ice of the node from the viable candidate set is made based on the highest rel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OD and DSR do not perform well under cong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A688-E384-471B-94CD-52BBF221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139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747F-1B40-4233-9F58-2F246C05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5A21-AB22-41AF-98F0-B0C570FA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32767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32767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139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139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139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96EE-31FF-486E-A1A3-C87C16BDF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709D-54E5-4B39-8756-4D1B80F01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CABB-61E1-43E4-B7B5-B52225E9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D405-A4AF-4CD9-B998-5C8A111D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B2C5-6FFE-4474-89B0-5C98E42A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0102-9552-437F-92D3-0E94E5EB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B8C8-FBC8-40C4-9E46-C7F1BA7A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868D-B029-4D45-8C89-C02CB276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9D80-5C0D-4163-808A-49B9FCA1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E9CA-D036-43D6-93B3-C8431C09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139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0A65-A821-4B0C-B4C9-A08E282C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139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5E54-C2F0-49E6-8212-6FD8D2FD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5F38-687D-432D-BDD0-D646C52EC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32767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32767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139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9139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9139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A8DB-29F0-45D7-A1E3-ABFF5F977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E8B0-F60B-48A4-8DDC-ABDE495A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AA87-FD4E-46D3-B041-95DFD1C8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B99C-3FC3-4C48-B7D7-FDC0E758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E41A-05EE-4857-8BFE-233B5939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688C-E5AE-4E08-917E-E753C92B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FDF1-C154-423A-B1D9-A8A744AD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139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EA00-4993-4ACE-9865-C5C0AE7D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26C2-B38B-4F08-B043-AF7A6509C9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B807-48AD-498F-95B1-45F553B4A2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RAP and SPEED 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ed by Octav Chipa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Location-Addressed Protocol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less transport 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ress is based on geographic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ic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c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 multic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 anyc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Geographic forwarding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dy algorith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s the node with the shortest geographic distance to the packet’s dest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every step the packet gets closer to the dest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s really good for high density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85f"/>
                </a:solidFill>
                <a:latin typeface="Arial"/>
              </a:rPr>
              <a:t>Velocity Monotonic Scheduling</a:t>
            </a:r>
            <a:endParaRPr b="0" i="1" lang="en-US" sz="40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CFS policy is generally used in sensor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s poorly for realtim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both deadline and distance a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gns priority based on the requested velo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higher velocity denotes higher pri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85f"/>
                </a:solidFill>
                <a:latin typeface="Arial"/>
              </a:rPr>
              <a:t>Velocity Monotonic Scheduling(2)</a:t>
            </a:r>
            <a:endParaRPr b="0" i="1" lang="en-US" sz="40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flav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c monotonic velocity (SMV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=dist(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/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namic monotonic velocity (DMV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=dist(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/(D-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MAC –layer prioritization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communicating multiple host compete for the shared med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802.11b all messages have the same pri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nforce packet prioritization MAC protocols should provide distributed prioritization on packets from different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can changed two 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ime you can wait after id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S = BASE_DIFS * PRIO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off increase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W=CW*(2 + (PRIORITY-1)/MAX_PRIORIT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Experiment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uting protoc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ynamic Source Routing (DS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iginally designed for ID networ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tion based ro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edu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C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S – fixed priority based on their e2e dead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locity Schedu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V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V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Overall Miss Ratio of GF/DSR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85f"/>
                </a:solidFill>
                <a:latin typeface="Arial"/>
              </a:rPr>
              <a:t>Impact of scheduling on deadline misses</a:t>
            </a:r>
            <a:endParaRPr b="0" i="1" lang="en-US" sz="4000" spc="-1" strike="noStrike">
              <a:solidFill>
                <a:srgbClr val="ff985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SPEED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State of the art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a few real-time algorithms exist for sensor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ing based on sensor’s 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PS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D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Realtime System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rned with two asp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Design Goal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regarding the immediate neighb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ft Real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uniform speed delivery across the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 is this uniform speed guaranteed globally or piece-w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 why would the application want something like th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MAC Layer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Design Goal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ffic load-balanc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ized behav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id avoid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Speed Protocol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ighbor beacon exchange sc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ay estimation algorith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less nondeterministic geographic forwarding algorith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ighbor feedback lo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bone rero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id avoid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st mile proces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API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MulticastSend(position,radius, pack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a message to all nodes in the specified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AnyCastSend(position,radius,pack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s a message to at least one node inside the specified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castSend(Global_ID, pack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a message to the specified ID (id is given by its geographic posi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Receive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API (2)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is the time constrai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PEED aims at providing a uniform packet delivery speed across the sensor network, so that the end-to-end delay of a packet is proportional to the distance between the source and destination. With this service, real-time applications can estimate end-to-end delay before making admission decisions. Delay differentiation for different classes of packets is left as future work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Q: if the velocity is imposed piece wise how can we give end-to end guarante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Q: By distance we mean Euclidian distance or the Euclidian distance of the path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985f"/>
                </a:solidFill>
                <a:latin typeface="Arial"/>
              </a:rPr>
              <a:t>Neighbor beacon exchange scheme</a:t>
            </a:r>
            <a:endParaRPr b="0" i="1" lang="en-US" sz="36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odically broadcasts a beacon to neighbors to exchange loc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reduce traffic we can piggyback the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enhanceme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vertising state changes may reduce number of beac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-demand beac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ay esti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k pressure press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eld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ighbor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d To De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Delay estimation algorithm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scarce bandwidth cannot use probe pa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ay is measured at the sender as the difference between when the packet was queued and its ACK and the processing time on the receiver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eps track of multiple data points to compute the current delay using (EWMA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alavg = intervalavg + w * er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is the refresh time sample from this pack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r = I - intervalav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 is the smoothing consta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Delay estimation algorithm (2)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ay estimation beacon is used to communicate to other neighbors the estimated de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pe to make a set of neighboring nodes react to changes in traffic patters [avoid congestion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SNGF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ighbor set of node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warding candidate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 = d(i, destin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next = d(next, destin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y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rcRect l="17657" t="0" r="19173" b="0"/>
          <a:stretch/>
        </p:blipFill>
        <p:spPr>
          <a:xfrm>
            <a:off x="5638680" y="4425840"/>
            <a:ext cx="3505320" cy="2432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0" y="0"/>
                <a:ext cx="2733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estination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n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ex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676520" y="3200400"/>
                <a:ext cx="42670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estination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n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ex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676520" y="2362320"/>
                <a:ext cx="28191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n</m:t>
                        </m:r>
                        <m:r>
                          <m:t xml:space="preserve">|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range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228600" y="533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600200" y="5105520"/>
                <a:ext cx="30211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Speed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estinatio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ext</m:t>
                        </m:r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pDela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SNFG(2)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|FSi| &gt; 0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|Viable| &gt; 0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didate=choose(Viable(FSi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to candid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 relay rat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no nodes to support Ssetpoint downstream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op packet if a random chosen between (0,1) i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gger than the relay rat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op pa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pressure beacon upstr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447920" y="2057400"/>
                <a:ext cx="44193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iable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j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ee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est</m:t>
                        </m:r>
                        <m:r>
                          <m:t xml:space="preserve">)</m:t>
                        </m:r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tpoin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Modeling the sensor network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ens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ed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 layer may provide Q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arce bandwid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ids ex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intens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cation generates congestion hot-spo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nd-to-end communication time depends on single-hop delay and the distance it has to tra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SNFG(3)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ay Bound = 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2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/ 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set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2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the end-to-end Euclidian distance measu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setpoi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speed maintained across the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messages have the same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this really mean we can enforce a deadli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85f"/>
                </a:solidFill>
                <a:latin typeface="Arial"/>
              </a:rPr>
              <a:t>Neighbor feedback loop</a:t>
            </a:r>
            <a:endParaRPr b="0" i="1" lang="en-US" sz="40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ain a single hop speed above a desired Sset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setpoint is a network wide parameter that tunes how harsh the realtime requirements 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985f"/>
                </a:solidFill>
                <a:latin typeface="Arial"/>
              </a:rPr>
              <a:t>Neighbor feedback loop</a:t>
            </a:r>
            <a:endParaRPr b="0" i="1" lang="en-US" sz="3600" spc="-1" strike="noStrike">
              <a:solidFill>
                <a:srgbClr val="ff985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rcRect l="8625" t="0" r="0" b="0"/>
          <a:stretch/>
        </p:blipFill>
        <p:spPr>
          <a:xfrm>
            <a:off x="1143000" y="2286000"/>
            <a:ext cx="678168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Back pressure rerouting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routing due to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gested area is detected and the probability of sending to that node is limi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su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be reinforcement should refer to a geographic area rather than a nod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410080" y="4673520"/>
            <a:ext cx="37339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Void avoidance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ids occur if the density is not high eno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ls with voids similarly to hotspots by applying backbone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al packets may be dropped when trying to avoid a v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029200" y="4875120"/>
            <a:ext cx="411480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85f"/>
                </a:solidFill>
                <a:latin typeface="Arial"/>
              </a:rPr>
              <a:t>Last mile processing</a:t>
            </a:r>
            <a:endParaRPr b="0" i="1" lang="en-US" sz="40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ing close to the destination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 anyc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 multic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E2E Miss Ratio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setpoint = 1km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2e deadline = 200 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Protocol Evaluation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743200" y="1676520"/>
            <a:ext cx="4419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Improving Speed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Possible  Improvement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 the application to specify different sp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bine speed and r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the MAC layer to support priority sending messages with different prior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scheduling policy to u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are messages dropp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Modeling the sensor network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ght integration with the physical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tion a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 patter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coordin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sors coordinate with one another [usually by defining a group] in order to aggregat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ually involves a small number of h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sor-base communic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ds data from the local group to the base s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ires multiple h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Questions?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RAP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Contribution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igh level architecture for large wireless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lity to define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ent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locity Monotonic Scheduling (VM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olicy for scheduling packets in a sensor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Design Goal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APIs for micro-sensing and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ximize the number of packets meeting their e2e dead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le well to large number of nodes and h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e minimum communication overh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RAP Stack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81080" y="2209680"/>
            <a:ext cx="594360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Query/Event Service API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ry {attribute list, area, time constraints, querier location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ster {event, area, query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ally the results will be send back to the quer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01T00:00:00Z</dcterms:created>
  <dc:creator/>
  <dc:description/>
  <dc:language>en-US</dc:language>
  <cp:lastModifiedBy>ochipara</cp:lastModifiedBy>
  <cp:lastPrinted>1904-01-01T00:00:00Z</cp:lastPrinted>
  <dcterms:modified xsi:type="dcterms:W3CDTF">2003-09-12T21:53:18Z</dcterms:modified>
  <cp:revision>123</cp:revision>
  <dc:subject/>
  <dc:title>PowerPoint Presentation</dc:title>
</cp:coreProperties>
</file>